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C41-23B4-4291-ADCC-743FBBDE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D79-2162-490C-A2AA-2E1F96BA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F62-399E-47E1-BD1F-6D3BB10B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C07-F28C-4D0F-9F00-11145225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C35B-D79E-4A51-AB4C-3406CD3D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C452-7B6E-4FE3-87AF-E0748358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943E-08D6-44AB-BF08-6E246B05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7B9F-50D0-4AC4-866C-09252410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D74A-3175-4561-8A49-B2A82E79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98AE-2688-41E9-9390-A44891A4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C6B6-B7C0-40F6-98DB-B961532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A80-118C-4606-A9AA-91074297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49C6-F9C7-4C24-9A2B-31A26692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A0A2-9CEA-4E87-9AAA-54E8C4FF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9D7B-EDB0-4F00-A05E-DA23B9DE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D9F1-5789-4087-9DF3-EF793950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F307-5646-45D3-80CE-6ECF4832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388-F4A4-4AB3-B659-97B8F20F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9F1-2810-4F51-BDE0-6A6A1870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B53-5A54-43EE-99A8-AFBA72BA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954-A1D2-4D78-A548-35DBD008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577-E775-4F25-BA99-92F9F5AE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83F-8A76-4C1A-8863-AC9A9E15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14B-817E-4947-9B7B-8218CB76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E901-C3C3-444C-B562-1F55F5064685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26DF-E5E8-4175-88BC-64E48D42CD4E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-6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-654120"/>
          <a:ext cx="208080" cy="7251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2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10"/>
          <p:cNvSpPr/>
          <p:nvPr/>
        </p:nvSpPr>
        <p:spPr>
          <a:xfrm>
            <a:off x="1800" y="659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-6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-654120"/>
          <a:ext cx="208080" cy="7251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2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8"/>
          <p:cNvSpPr/>
          <p:nvPr/>
        </p:nvSpPr>
        <p:spPr>
          <a:xfrm>
            <a:off x="1800" y="659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10 Track 10.wma" descr=""/>
          <p:cNvPicPr/>
          <p:nvPr/>
        </p:nvPicPr>
        <p:blipFill>
          <a:blip r:embed="rId2"/>
          <a:stretch/>
        </p:blipFill>
        <p:spPr>
          <a:xfrm>
            <a:off x="-304920" y="1700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6400800" y="-2816280"/>
            <a:ext cx="3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114800" y="0"/>
            <a:ext cx="480528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0" y="2556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WordArt 6"/>
          <p:cNvSpPr txBox="1"/>
          <p:nvPr/>
        </p:nvSpPr>
        <p:spPr>
          <a:xfrm>
            <a:off x="468360" y="1752480"/>
            <a:ext cx="3887640" cy="261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Юзэф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рашэўскі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6"/>
          <p:cNvGrpSpPr/>
          <p:nvPr/>
        </p:nvGrpSpPr>
        <p:grpSpPr>
          <a:xfrm>
            <a:off x="3208320" y="1344600"/>
            <a:ext cx="9144000" cy="3544920"/>
            <a:chOff x="3208320" y="1344600"/>
            <a:chExt cx="9144000" cy="3544920"/>
          </a:xfrm>
        </p:grpSpPr>
        <p:sp>
          <p:nvSpPr>
            <p:cNvPr id="132" name="Rectangle 4"/>
            <p:cNvSpPr/>
            <p:nvPr/>
          </p:nvSpPr>
          <p:spPr>
            <a:xfrm>
              <a:off x="3208320" y="1344600"/>
              <a:ext cx="9144000" cy="35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3208320" y="1725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5693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66"/>
            </a:outerShdw>
          </a:effectLst>
        </p:spPr>
      </p:pic>
      <p:sp>
        <p:nvSpPr>
          <p:cNvPr id="135" name="Rectangle 7"/>
          <p:cNvSpPr/>
          <p:nvPr/>
        </p:nvSpPr>
        <p:spPr>
          <a:xfrm>
            <a:off x="-3192480" y="48895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228600" y="5791320"/>
            <a:ext cx="85438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 гэтай хаце жыў студэнт Юзэф Крашэўскі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287640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68316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5"/>
          <p:cNvSpPr txBox="1"/>
          <p:nvPr/>
        </p:nvSpPr>
        <p:spPr>
          <a:xfrm>
            <a:off x="250920" y="2708280"/>
            <a:ext cx="288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. Орда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40" name="Object 6"/>
          <p:cNvGraphicFramePr/>
          <p:nvPr/>
        </p:nvGraphicFramePr>
        <p:xfrm>
          <a:off x="0" y="0"/>
          <a:ext cx="3635280" cy="27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635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Picture 7" descr=""/>
          <p:cNvPicPr/>
          <p:nvPr/>
        </p:nvPicPr>
        <p:blipFill>
          <a:blip r:embed="rId6"/>
          <a:stretch/>
        </p:blipFill>
        <p:spPr>
          <a:xfrm>
            <a:off x="0" y="4497480"/>
            <a:ext cx="3635280" cy="236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"/>
          <p:cNvGraphicFramePr/>
          <p:nvPr/>
        </p:nvGraphicFramePr>
        <p:xfrm>
          <a:off x="0" y="-9360"/>
          <a:ext cx="9144000" cy="68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9360"/>
                    <a:ext cx="91440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WordArt 3"/>
          <p:cNvSpPr txBox="1"/>
          <p:nvPr/>
        </p:nvSpPr>
        <p:spPr>
          <a:xfrm>
            <a:off x="324000" y="404640"/>
            <a:ext cx="6864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уліца Брэсцкая (цяпер Леніна).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Акварэль Н. Орды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wheel spokes="8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279576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4356000" y="2492280"/>
            <a:ext cx="4032360" cy="25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man Old Style"/>
              </a:rPr>
              <a:t>Віктар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man Old Style"/>
              </a:rPr>
              <a:t>Гельтм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  <p:transition spd="med"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2824200" y="7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610160" y="0"/>
            <a:ext cx="45338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5"/>
          <p:cNvSpPr txBox="1"/>
          <p:nvPr/>
        </p:nvSpPr>
        <p:spPr>
          <a:xfrm>
            <a:off x="395280" y="1341360"/>
            <a:ext cx="3886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муальд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Траўгут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1814400" y="-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68316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5"/>
          <p:cNvSpPr txBox="1"/>
          <p:nvPr/>
        </p:nvSpPr>
        <p:spPr>
          <a:xfrm>
            <a:off x="228600" y="1219320"/>
            <a:ext cx="3352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Плакід 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Янкоўскі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2857680" y="7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2771640" y="5950080"/>
            <a:ext cx="4843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man Old Style"/>
              </a:rPr>
              <a:t>К. Каліноўскі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3851280" y="333360"/>
            <a:ext cx="529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радзіўся 21 студзень 1838 г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9"/>
          <p:cNvSpPr txBox="1"/>
          <p:nvPr/>
        </p:nvSpPr>
        <p:spPr>
          <a:xfrm>
            <a:off x="3995640" y="1197000"/>
            <a:ext cx="4815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47 г паступіў у 1-ы клас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іслацкай гімназіі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1"/>
          <p:cNvSpPr txBox="1"/>
          <p:nvPr/>
        </p:nvSpPr>
        <p:spPr>
          <a:xfrm>
            <a:off x="3924360" y="342900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58 г. быў створаны бюс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. Калиноўскаг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WordArt 12"/>
          <p:cNvSpPr txBox="1"/>
          <p:nvPr/>
        </p:nvSpPr>
        <p:spPr>
          <a:xfrm>
            <a:off x="3924360" y="2421000"/>
            <a:ext cx="496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63-64 г. кіраўнік паўстанн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3924360" y="472428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87 г. гімназіі прысвое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імя К.Каліноўскаг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400800" y="-4348080"/>
            <a:ext cx="36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4751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0" y="-5256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3657600" y="3581280"/>
            <a:ext cx="51814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man Old Style"/>
              </a:rPr>
              <a:t>Аляксанд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man Old Style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Bookman Old Style"/>
              </a:rPr>
              <a:t>Палубінскі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6400800" y="1074600"/>
            <a:ext cx="36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0" y="47624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0" y="260280"/>
            <a:ext cx="250020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18900000" blurRad="0" rotWithShape="0">
                    <a:srgbClr val="ff0000">
                      <a:alpha val="50000"/>
                    </a:srgbClr>
                  </a:outerShdw>
                </a:effectLst>
                <a:latin typeface="Bookman Old Style"/>
              </a:rPr>
              <a:t>200</a:t>
            </a:r>
            <a:endParaRPr b="1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18900000" blurRad="0" rotWithShape="0">
                  <a:srgbClr val="ff0000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116000" y="620640"/>
            <a:ext cx="7777080" cy="568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віслаччына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есень звонкіх мара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 краявіды - воч не адарваць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І самыя ярчэйшыя тут зор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 небе цемнабэзавым гараць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>
            <a:off x="395280" y="5418000"/>
            <a:ext cx="835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Мястэчка Свіслач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у старажытнасці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0" y="-9360"/>
          <a:ext cx="9144000" cy="68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9360"/>
                    <a:ext cx="91440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WordArt 3"/>
          <p:cNvSpPr txBox="1"/>
          <p:nvPr/>
        </p:nvSpPr>
        <p:spPr>
          <a:xfrm>
            <a:off x="324000" y="404640"/>
            <a:ext cx="6864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уліца Брэсцкая (цяпер Леніна).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Акварэль Н. Орды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WordArt 3"/>
          <p:cNvSpPr txBox="1"/>
          <p:nvPr/>
        </p:nvSpPr>
        <p:spPr>
          <a:xfrm>
            <a:off x="228600" y="5877000"/>
            <a:ext cx="86868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Свіслач у малюнках Н. Орды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400800" y="1535040"/>
            <a:ext cx="36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43038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400800" y="1660680"/>
            <a:ext cx="3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268200"/>
            <a:ext cx="9296280" cy="6039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0" y="41781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533520" y="594360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Свіслач (Малюнак Н.Орды)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400800" y="-8717040"/>
            <a:ext cx="3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0" y="-27432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219640" y="18900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264c"/>
                </a:solidFill>
                <a:latin typeface="Times New Roman"/>
              </a:rPr>
              <a:t>Сенатар  Вялікага  княства  Літоўскага, уладальнік  мястэчка, апякун  і  фундатар  гімназіі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2d4c"/>
                                      </p:to>
                                    </p:animClr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2d4c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400800" y="1535040"/>
            <a:ext cx="36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57200" y="0"/>
            <a:ext cx="45277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0" y="43038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4952880" y="1676520"/>
            <a:ext cx="381024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Times New Roman"/>
              </a:rPr>
              <a:t>Абеліс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Times New Roman"/>
              </a:rPr>
              <a:t>на гандлёва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Times New Roman"/>
              </a:rPr>
              <a:t>плошч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400800" y="-3868560"/>
            <a:ext cx="36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0" y="-2793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04920" y="5943600"/>
            <a:ext cx="8381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Будынак гімназіі імя Р.Траўгута ў Свіслачы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3:08:47Z</dcterms:created>
  <dc:creator>Ученик</dc:creator>
  <dc:description/>
  <dc:language>en-US</dc:language>
  <cp:lastModifiedBy>Grey Wolf</cp:lastModifiedBy>
  <dcterms:modified xsi:type="dcterms:W3CDTF">2012-01-10T20:14:53Z</dcterms:modified>
  <cp:revision>56</cp:revision>
  <dc:subject/>
  <dc:title>Презентация PowerPoint</dc:title>
</cp:coreProperties>
</file>